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5C1-4B4E-449A-970B-20734C3E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129-CEB6-4745-8DDC-FB02EB5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64A-27D8-4013-A5D6-19B0D219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E5E-5C19-4C3A-B1CB-EB4BBC33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A56-F511-49C6-B658-AE0C8F2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6D7-6DEB-4F36-80BB-D75648D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1EC-5954-415E-9742-7A536683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921-6826-463E-A1ED-88FFCEBC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15A-9EB3-433B-AFE9-EAD06AD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65C-FB39-448F-BBB5-2F74148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B62-24A1-4817-B251-4330498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DF2-C528-496D-B996-A403C90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1D27-9CA8-4EC1-90A5-2380BEC4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T 640 Powerpoin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lide/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rl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ran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th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ullet Comes in individ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one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a Han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ges—click 3 to give a handout and will leave room fo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to Web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your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thi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green tree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rowse th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Saved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12:49Z</dcterms:created>
  <dc:creator>Administrator</dc:creator>
  <dc:description/>
  <dc:language>en-US</dc:language>
  <cp:lastModifiedBy>Cambridge College</cp:lastModifiedBy>
  <dcterms:modified xsi:type="dcterms:W3CDTF">2008-11-03T21:32:35Z</dcterms:modified>
  <cp:revision>3</cp:revision>
  <dc:subject/>
  <dc:title>EIT 640 Powerpoint Presentation</dc:title>
</cp:coreProperties>
</file>